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D12-A290-4D6F-8B48-9021F699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721-A734-4DE6-AFDC-A787E6FC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F7C-D338-4152-9465-B26AD2BA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FF2-0775-477D-9415-1C855CA9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3DB-029D-42B0-85AE-B5E22DD6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537-A4B0-4F45-853D-37A4A55C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B3D-B4F8-4BDD-97AF-1BDDF63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DB1-A526-4436-93E8-5368D0A5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D9E-8D31-4577-BBC4-B841D9F2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904-C858-4374-9913-E354FBCD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281-6C2A-46F7-9635-5C098A4D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4D9-A27B-4167-B555-6CBEB74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F7A-92D6-4F14-ADD6-0EAE307CE1E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3 Tvoj deň sa zas ku koncu chý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 deň sa zas ku koncu chý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vzdať ti Pane obeť chvá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 vrúcnu vďaku v tejto chví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dary, čo si z lásky dal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občerstvil si dušu moj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klonil si sa ku mne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ávaš novú silu k boj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ceste k novým víťazstvá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 objala ma láska č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á tvoja milosť velik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nevídané veci chyst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karhajúceho hriešnik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sobotný mi pirpomí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ty si Pán, môj Stvor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v tvojej láske odpočí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našiel v tebe večný cieľ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 v novom týždni, drahý P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blízkosť svoju cítiť 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oheň viery vo nne pla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ám som slabý, pamät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dovoľ, pros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stúpiť zas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odpočinku nové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sprevádzaj m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om čas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chraňuj vždy od zlého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6-11-23T17:15:26Z</dcterms:modified>
  <cp:revision>10</cp:revision>
  <dc:subject/>
  <dc:title>Je veľký náš Pán, on slávy je Kráľ Nech do všetkých strán  spev vrúcnych znie chvál.</dc:title>
</cp:coreProperties>
</file>